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F859A-DEC5-404F-9F74-3ECEE70D9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CB95D-BA6C-4141-8F32-6374B07AF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6071C-6CB8-4608-BB48-3E208171D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5E50B-8D7B-4247-9867-7B3251066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CF197-D0F7-4A07-8205-342944290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53219-622F-4EF5-8D22-58E932D85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3755D-3EAE-47CA-9E0D-E03DC70D7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1BD44-E6C4-495C-848C-6717F78B0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81BF1-5AF6-4356-80A1-2807BDD54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8DACC-91CD-4ABD-BF5D-F509595BE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8B217-4CA5-49A2-9709-45D94C554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14CD4-A7B4-4B9E-A491-28AD91B54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8432E-9C45-459D-B73C-F24F8F079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352AD-8AFD-4F58-A453-8EE60B424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13624-8664-4701-8E12-C5B683F2B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C9D34-F301-4C65-B146-9B49EE576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9BE4E-D0FD-408A-9AD9-57B99862E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96382-E927-44CA-9D3D-7187E0F23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3D9F6-77C3-428B-83AF-2CF560DE8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4C188-4C0B-47F1-BEEE-501576E3B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DF7AF-4866-457B-B4F0-B99617600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5124A-A3AA-48BA-AA30-A854FF22D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E4D35-0D07-4A77-91FF-1C9D9A600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B0A61-14CC-421F-818D-E971DC519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57E13-85B5-4519-AA4F-EEB7587784C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A4BBC-7688-42E1-9C70-3B04D16363B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michigan.gov/documents/mde/02_-_Fall_2009_MEAP_State_Demographic_Report_314208_7.pdf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Using Assessments to Plan for Learning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AP and MME Data Coll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NCLB (2002)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e academic achievement of lower performing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students proficient in math and read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deral $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ess students in Math &amp; Reading every year in 3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8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gra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ess once in high sch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reported by race, ethnicity, gender, disability status, migrant status, English proficiency, and economically disadvanta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996666"/>
                </a:solidFill>
                <a:uFillTx/>
                <a:latin typeface="Arial"/>
                <a:hlinkClick r:id="rId1"/>
              </a:rPr>
              <a:t>http://www.michigan.gov/documents/mde/02_-_Fall_2009_MEAP_State_Demographic_Report_314208_7.pd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nctions are enforced if any of the groups fail to make AYP (adequate yearly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 Stakes Assess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ypes of Standardized Tests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iterion Referenced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res individual student scores to a set of predefined stand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ores give information about the degree to which the test content was maste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rm Referenc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res individual scores to the scores of a group of students who have taken the 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ores indicate standing relative to that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hievement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asures how much a student has learned in various academic content ar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on a regular basis in classroo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titude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test that estimates a student’s potential for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ten used by schools for placement in specialized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reas Assessed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66652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ME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ience (Grades 5 &amp; 8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al Studies (Grades 6 &amp; 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164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erformance Level Descriptor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MEAP/MM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anc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fici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artially Profici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t Profici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4796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ata Analysis Activity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609480" y="1599840"/>
            <a:ext cx="46483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 with a part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re your MEAP/MME data with each 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of you collect MEAP/MME data from a different school district (you’ll have 4 total to compar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re your find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715000" y="1599840"/>
            <a:ext cx="28195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ow does your district compare to the state averag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ow does your district compare to othe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16:25:17Z</dcterms:created>
  <dc:creator>emu</dc:creator>
  <dc:description/>
  <dc:language>en-US</dc:language>
  <cp:lastModifiedBy>EMU User</cp:lastModifiedBy>
  <dcterms:modified xsi:type="dcterms:W3CDTF">2010-09-14T16:20:27Z</dcterms:modified>
  <cp:revision>5</cp:revision>
  <dc:subject/>
  <dc:title>Slide 1</dc:title>
</cp:coreProperties>
</file>